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jeopardy.wav" ContentType="audio/x-wav"/>
  <Override PartName="/ppt/media/image24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6FC4-C164-4392-B6C6-3A1295891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B6B4-6AEA-4468-8196-99C5DC6B01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E269-AF16-4E6B-97E0-2FDEF3D885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4E0F-AC49-4406-9911-D0AB791042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1903-04E7-40C5-9EEF-D273BC5827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7485-A499-447D-8ED0-C6BEDBA48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66AD-DB65-4478-913C-55A1674652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E098-1DFE-4D23-A767-CAC269EBB1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4C1-A64A-4978-B881-0339AA17D3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9EA8-B7AB-4D2B-BC60-4ED8EDD0E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2571-F820-44F0-BC23-2E7F8F6A0F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10C0-EE3D-4007-8151-3F26581359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A9BE-A6B5-4C9B-B8BA-7651D20BDA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3EE9-BF6C-4831-82CF-6A52A65148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6D46-1AFF-45F4-84D3-89CD4D929F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9B14-4BEF-4355-B86E-DA5FAE4654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BA33-E9F3-4AD6-A433-5222B12C5F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8994-CAD4-4F76-B8A6-31A9A1038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4A5-9D9E-42F6-A58B-DD9614C58B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FE0C-E69D-47E8-B776-B87D04A943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B0AE-DB53-420E-83EA-A70077640D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FB08-F320-49E7-9AD9-D6B3DC843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6F91-B109-4BB3-8CEE-A17BF1B61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7E5D-07D1-45B1-973B-D8B596588E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3166-AB3A-40BE-8FB2-710B3A7866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65C9-0FAF-4030-87F0-4B85CB9A3D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9C2F-4272-4751-B735-A5AFD7D29A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E7E7-C096-4F77-BE4B-E45AABA64D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0157-DCF5-4B82-91A2-586BBB088B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DEF1-A0C5-4633-8C2E-4B3190AEAE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4D1-6078-4238-9FAD-98749616EB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D157-930A-42BE-A86F-7C14EFBB85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C1E-E95A-4B9F-BC26-192CBA461E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0415-0A55-467C-A77C-12E2C95F63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2B77-9B1B-4FC4-B18C-1A0D75943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1FF6-3CCE-4DEC-9FFC-5BE3F2D20A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0A4E-E85B-4B8E-9E00-B7A81E47CB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7D96-B8B8-449C-9B6C-F5D09CE59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491C-A0C5-44E9-A429-10739E153F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07B5-47AF-4265-925C-7F399D15C2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AF6-A2EA-4D38-B3A7-1071ED3DAF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9506-F361-40C2-A8E3-56E6ECEA14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0E6D-0242-4F7C-A1A4-9FE22EAF57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B2B8-7AD4-4B00-B924-F1F4F310F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2807-E7CE-454D-A353-3A9C3A19DF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D335-4529-46BF-9473-8557158767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E89E-1B78-4441-9BC5-AD1C4FDDF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2682-0314-45DE-91E4-92212D4C2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10F6-3EDD-4573-8086-84AB8BBF6C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CE45-8025-4C69-9476-6C2E42BDB7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0A1B-BA28-4927-886E-55B4E7A09E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345F-3D0D-4C31-8323-416FDF2200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CAEA-97B8-40BF-B260-4BDB1A4788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20F-A367-4D75-8609-AF6207A3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30B-A3A3-4009-80CF-06F52BEC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840-620E-418D-8866-D3282B1F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5C3-36B2-43BF-8D50-9328A657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AB41-C255-4CFF-81FC-B65C5802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C97F-8A49-4D2F-8E40-292FEF92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6D88-5CD0-4192-8243-A4D70DE0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4184-5B08-4008-A719-DEE30754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AA36-5E83-4683-8133-E7C01C92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8A51-9EB4-426D-AABB-5C97DC64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76C1-956E-4954-83DF-ADCA24AE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5EF-1671-4C1D-8BA4-945441CC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1A4-5F01-4F65-86EF-D53EE0A6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B224-4148-4007-B2BB-01DA7582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1A35-E9BA-4403-988D-183CF404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FF71-75AA-4562-9CD9-1885E7C6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5929-B009-44DF-86C0-CCDE0C82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40A9-B7CA-40E4-A62F-813FA3D5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7AB7-3882-4759-BB8E-F0AFAC59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06F4-51C8-4F40-9141-6CEAC8B2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8A6D-BF87-403A-8FC3-19C87AE0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DEBC4-9CB6-4B8A-B5E5-1870F3D7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C8C-54D7-42E7-A17B-BA216BDA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690F7-EF62-47AE-A1CE-7F11AD38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66CB2-1BF6-45CF-8F43-713F1C7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CDEE-2E6E-4A3B-8A75-D2A02AE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C4626-E856-4EAE-9590-72A8DDEF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11D9E-3E71-47BB-8FE9-5FADF5F4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8F8F7-6A70-4796-8711-E109C958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EB62-1582-46DA-B442-0188BE5C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D19-8509-4818-96D8-95BF6BE8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7B9-1F50-4B46-9C46-FB2C2A76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909-1378-41D7-8BFC-DCFB38DE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DE8-DDD9-4FD4-BBC5-C0163D3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696-9D99-462A-808E-4F57773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664-78C0-46B0-80CD-A2D647D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F3D6-AB09-40AF-8921-84220330D6BB}" type="slidenum">
              <a:rPr b="0" lang="en-US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1874-8789-4E07-AEE8-417BDEF021ED}" type="slidenum">
              <a:rPr b="0" lang="en-US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8021-A813-48C2-A30E-ABBEFB4E9B90}" type="slidenum">
              <a:rPr b="0" lang="en-US" sz="1200" spc="-1" strike="noStrike">
                <a:solidFill>
                  <a:srgbClr val="d1eae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audio" Target="../media/jeopardy.wav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1676520" y="6102360"/>
            <a:ext cx="605772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73080" y="1139760"/>
            <a:ext cx="8620200" cy="12686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14080" y="2590920"/>
            <a:ext cx="21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128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500 Question from Category 1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28600" y="2590920"/>
            <a:ext cx="85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amount of calories equals one poun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73080" y="1060560"/>
            <a:ext cx="8620200" cy="12747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3110400" y="2590920"/>
            <a:ext cx="233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350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1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2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52280" y="2590920"/>
            <a:ext cx="869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ways wash your hands with, _____, _____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before and after handling foo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2256840" y="2819520"/>
            <a:ext cx="450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is hot, soap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2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2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18680" y="2514600"/>
            <a:ext cx="812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ver put cooked food items back on the sa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e that previously held thi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189000" y="396720"/>
            <a:ext cx="8583480" cy="15544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2804760" y="2590920"/>
            <a:ext cx="294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raw foo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109440" y="47628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533520" y="2590920"/>
            <a:ext cx="794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garding picnic food: when in doubt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  __  _____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36360" y="62856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2582280" y="259092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row it ou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4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2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57200" y="2590920"/>
            <a:ext cx="809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se are four simple steps to keep fo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afe and fight harmful bacter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3"/>
          <p:cNvGraphicFramePr/>
          <p:nvPr/>
        </p:nvGraphicFramePr>
        <p:xfrm>
          <a:off x="762120" y="1523880"/>
          <a:ext cx="7775280" cy="46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4"/>
          <p:cNvSpPr/>
          <p:nvPr/>
        </p:nvSpPr>
        <p:spPr>
          <a:xfrm>
            <a:off x="838080" y="1523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Weights &amp; Measur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362320" y="1523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Food safe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809880" y="1523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Kitchen Equip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394240" y="1523880"/>
            <a:ext cx="15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Times New Roman"/>
              </a:rPr>
              <a:t>Nutrition Guidelin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928560" y="1523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2823480" y="23652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 Rounded MT Bold"/>
              </a:rPr>
              <a:t>Jeopardy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Rectangle 2" descr=""/>
          <p:cNvPicPr/>
          <p:nvPr/>
        </p:nvPicPr>
        <p:blipFill>
          <a:blip r:embed="rId1"/>
          <a:stretch/>
        </p:blipFill>
        <p:spPr>
          <a:xfrm>
            <a:off x="109440" y="43344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1343880" y="2590920"/>
            <a:ext cx="58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clean, separate, cook and chi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92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192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192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192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500 Question from Category 2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-380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0" y="2590920"/>
            <a:ext cx="92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mburger should be cooked to ____*F, bonel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cken to ____*F and whole chicken to ____*F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109440" y="36036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2170800" y="25909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160, 165 and 180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1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3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295280" y="2590920"/>
            <a:ext cx="56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a pan with a hole in the cent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76040" y="639720"/>
            <a:ext cx="8517240" cy="1274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7"/>
          <p:cNvSpPr/>
          <p:nvPr/>
        </p:nvSpPr>
        <p:spPr>
          <a:xfrm>
            <a:off x="2010240" y="259092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ngel food cake pa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300"/>
                            </p:stCondLst>
                            <p:childTnLst>
                              <p:par>
                                <p:cTn id="4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09440" y="51264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914400" y="2819520"/>
            <a:ext cx="605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used for chopping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176040" y="603360"/>
            <a:ext cx="8517240" cy="12747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2459520" y="2590920"/>
            <a:ext cx="36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a chef’s knif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300"/>
                            </p:stCondLst>
                            <p:childTnLst>
                              <p:par>
                                <p:cTn id="4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3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3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762120" y="2590920"/>
            <a:ext cx="66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is used to beat egg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176040" y="560520"/>
            <a:ext cx="8517240" cy="1274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509920" y="2590920"/>
            <a:ext cx="353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a wire whisk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4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3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04920" y="2590920"/>
            <a:ext cx="74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tensil used to drain liqui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100 Question from Category 1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2590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are this many teaspoons in one tablespo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109440" y="281160"/>
            <a:ext cx="8583840" cy="15541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2353680" y="2590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 slotted spo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500 Question from </a:t>
            </a:r>
            <a:br>
              <a:rPr sz="4500"/>
            </a:b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Category 3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 used to break up lumps and incorporate air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Rectangle 2" descr=""/>
          <p:cNvPicPr/>
          <p:nvPr/>
        </p:nvPicPr>
        <p:blipFill>
          <a:blip r:embed="rId1"/>
          <a:stretch/>
        </p:blipFill>
        <p:spPr>
          <a:xfrm>
            <a:off x="103320" y="938160"/>
            <a:ext cx="8205480" cy="18050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828800" y="3505320"/>
            <a:ext cx="6400800" cy="86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a sifter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100 Question from Category 4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24382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source of advice on nutrition and fitness developed by the USDA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73080" y="712800"/>
            <a:ext cx="8620200" cy="12747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"/>
          <p:cNvSpPr/>
          <p:nvPr/>
        </p:nvSpPr>
        <p:spPr>
          <a:xfrm>
            <a:off x="876960" y="2590920"/>
            <a:ext cx="68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Dietary Guidelines for American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200 Question from Category 4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not required to be on a Nutrient Facts Labe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2197440" y="2590920"/>
            <a:ext cx="416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ingredients used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83908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1889280" y="32194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57200" y="2590920"/>
            <a:ext cx="815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5 servings are recommended from thi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d group each da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6"/>
          <p:cNvSpPr/>
          <p:nvPr/>
        </p:nvSpPr>
        <p:spPr>
          <a:xfrm>
            <a:off x="2529720" y="2590920"/>
            <a:ext cx="349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re vegetable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3200"/>
                            </p:stCondLst>
                            <p:childTnLst>
                              <p:par>
                                <p:cTn id="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83908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0" y="259092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lf of a day’s calories should come from thi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2" descr=""/>
          <p:cNvPicPr/>
          <p:nvPr/>
        </p:nvPicPr>
        <p:blipFill>
          <a:blip r:embed="rId1"/>
          <a:stretch/>
        </p:blipFill>
        <p:spPr>
          <a:xfrm>
            <a:off x="152280" y="907920"/>
            <a:ext cx="8620200" cy="12747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3392280" y="259092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4476600" y="2286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473920" y="2590920"/>
            <a:ext cx="360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whole grain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3200"/>
                            </p:stCondLst>
                            <p:childTnLst>
                              <p:par>
                                <p:cTn id="7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2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83908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7"/>
          <p:cNvSpPr/>
          <p:nvPr/>
        </p:nvSpPr>
        <p:spPr>
          <a:xfrm>
            <a:off x="0" y="2590920"/>
            <a:ext cx="892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amount of calories a food has compare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the amount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2" dur="32462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6"/>
          <p:cNvSpPr/>
          <p:nvPr/>
        </p:nvSpPr>
        <p:spPr>
          <a:xfrm>
            <a:off x="2300400" y="2590920"/>
            <a:ext cx="395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utrient dens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73080" y="530280"/>
            <a:ext cx="8839080" cy="16095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990720" y="2590920"/>
            <a:ext cx="65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heat just below boilin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73080" y="682560"/>
            <a:ext cx="8620200" cy="16099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2899440" y="2590920"/>
            <a:ext cx="27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simmer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73080" y="450720"/>
            <a:ext cx="8839080" cy="16160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762120" y="2590920"/>
            <a:ext cx="724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cook in a small amount of fa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2" descr=""/>
          <p:cNvPicPr/>
          <p:nvPr/>
        </p:nvPicPr>
        <p:blipFill>
          <a:blip r:embed="rId1"/>
          <a:stretch/>
        </p:blipFill>
        <p:spPr>
          <a:xfrm>
            <a:off x="73080" y="603360"/>
            <a:ext cx="8620200" cy="15364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3089880" y="259092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saut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Rectangle 2" descr=""/>
          <p:cNvPicPr/>
          <p:nvPr/>
        </p:nvPicPr>
        <p:blipFill>
          <a:blip r:embed="rId2"/>
          <a:stretch/>
        </p:blipFill>
        <p:spPr>
          <a:xfrm>
            <a:off x="-139680" y="378000"/>
            <a:ext cx="9137520" cy="16524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0" y="2590920"/>
            <a:ext cx="915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remove the peeling by using a knife or peel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0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0" dur="32462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152280" y="865080"/>
            <a:ext cx="8620200" cy="1579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3140280" y="2590920"/>
            <a:ext cx="228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pa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Rectangle 2" descr=""/>
          <p:cNvPicPr/>
          <p:nvPr/>
        </p:nvPicPr>
        <p:blipFill>
          <a:blip r:embed="rId1"/>
          <a:stretch/>
        </p:blipFill>
        <p:spPr>
          <a:xfrm>
            <a:off x="225360" y="603360"/>
            <a:ext cx="8839440" cy="15793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228600" y="2590920"/>
            <a:ext cx="84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work or press dough with your hand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200 Question from Category 1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62800" y="2590920"/>
            <a:ext cx="77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are this many tablespoons in one c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2" descr=""/>
          <p:cNvPicPr/>
          <p:nvPr/>
        </p:nvPicPr>
        <p:blipFill>
          <a:blip r:embed="rId1"/>
          <a:stretch/>
        </p:blipFill>
        <p:spPr>
          <a:xfrm>
            <a:off x="165240" y="530280"/>
            <a:ext cx="8759520" cy="17254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2813400" y="2590920"/>
            <a:ext cx="29376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o knead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2000"/>
                            </p:stCondLst>
                            <p:childTnLst>
                              <p:par>
                                <p:cTn id="9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500 Question from Category 5</a:t>
            </a:r>
            <a:br>
              <a:rPr sz="2800"/>
            </a:b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457200" y="259092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 mix shortening and flour with 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stry blender or two kniv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85680" y="755640"/>
            <a:ext cx="8839080" cy="1652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828880" y="3124080"/>
            <a:ext cx="290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o cut i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73080" y="987480"/>
            <a:ext cx="862020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3303360" y="2590920"/>
            <a:ext cx="19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16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$300 Question from Category 3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1067040" y="2590920"/>
            <a:ext cx="77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are this many cups in one half gall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73080" y="987480"/>
            <a:ext cx="8620200" cy="1268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3422160" y="259092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8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dbf5f9"/>
                </a:solidFill>
                <a:latin typeface="Calibri"/>
              </a:rPr>
              <a:t>$400 Question from Category 1</a:t>
            </a:r>
            <a:br>
              <a:rPr sz="4500"/>
            </a:b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0" y="2590920"/>
            <a:ext cx="90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are this many fluid ounces in one gall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mil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1:38:36Z</dcterms:created>
  <dc:creator>Cheryl Diermyer</dc:creator>
  <dc:description/>
  <dc:language>en-US</dc:language>
  <cp:lastModifiedBy>DeBates, Debra</cp:lastModifiedBy>
  <dcterms:modified xsi:type="dcterms:W3CDTF">2009-09-14T21:16:01Z</dcterms:modified>
  <cp:revision>81</cp:revision>
  <dc:subject/>
  <dc:title>Slide 1</dc:title>
</cp:coreProperties>
</file>